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D52-C5ED-43D4-BA87-D24C6BDF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DEF-0C34-41DF-8367-A22487B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E44-0C34-4A19-AE9B-72E783E2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A37-DAC8-48E3-94D6-DC0806EB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A4D9-5C5A-4F2A-9C51-D703DEA2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83E-534E-44B8-B78F-05FBFA7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DE2-6150-4C1F-A823-48A837E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67C-3784-4951-B791-0B5D4245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2912-5F25-4D67-90B6-45D042F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918-6CC2-4084-832A-D2C48D0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25C-604C-4DB9-A9DC-8A7906C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5B1-250F-4FDB-B93A-80B211C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1B0-E6E2-4B30-8C0E-E56E660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55C-308E-4FAF-BB73-8756C19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E49F-7030-4E65-B359-D08A96D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66E-E622-4874-B69E-F0B4E57E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8468-CC3F-4240-B051-B0D5757A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010-C22D-4982-AA0D-3DD97E0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EAC-56F4-4259-BF6D-76C0BC40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288-6573-4324-BA72-095AC6F5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FE9-B97B-43EE-AC89-952B2ECD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E27-34C2-4771-877F-1D0E7CB3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B3F-8960-41B3-9703-588571F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D2A-70C6-45C3-A87C-11F2524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BD82-58B5-415A-9AE8-3EED6ECBD5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425-AF9D-47F5-8E6D-B05F0182A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6360" y="1916280"/>
                <a:ext cx="1295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427640" y="3429000"/>
                <a:ext cx="869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4941720"/>
                <a:ext cx="1307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х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755640" y="947160"/>
            <a:ext cx="620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Смешивание и сортировка сыпучих и пластичных материа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шивание – для получения однородных по составу систем и смес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олжительность перемешивания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2471400"/>
            <a:ext cx="809136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, экспериментальный парамет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и конечная концентрация компонен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длительном перемешивании наблюдается расслоение, поэтому оптимальное время перемеши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3862080"/>
            <a:ext cx="694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личество перемешиваний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оборо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же как при перемешивании жидкостной системы важное значение имеют интенсивность и степень перемешивания, а также коэффициент однород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6360" y="5640840"/>
            <a:ext cx="42724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концентрац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тклонение концентрации в пробе от началь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9200" y="1627560"/>
            <a:ext cx="72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сители  (периодически  и    непрерывно действующи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лопастной,    2) шнековый,    3) бараб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00000" y="3357360"/>
            <a:ext cx="7632720" cy="1836720"/>
            <a:chOff x="900000" y="3357360"/>
            <a:chExt cx="7632720" cy="1836720"/>
          </a:xfrm>
        </p:grpSpPr>
        <p:sp>
          <p:nvSpPr>
            <p:cNvPr id="444" name=""/>
            <p:cNvSpPr/>
            <p:nvPr/>
          </p:nvSpPr>
          <p:spPr>
            <a:xfrm>
              <a:off x="654840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16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105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6320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848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7376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7904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52640" y="3816720"/>
              <a:ext cx="22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369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31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7520" y="3816720"/>
              <a:ext cx="213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953160" y="3357360"/>
              <a:ext cx="15264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580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41108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1636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02164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795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426237"/>
                  <a:lnTo>
                    <a:pt x="21220" y="15600"/>
                  </a:lnTo>
                  <a:lnTo>
                    <a:pt x="19376" y="21600"/>
                  </a:lnTo>
                  <a:lnTo>
                    <a:pt x="16772" y="15600"/>
                  </a:lnTo>
                  <a:lnTo>
                    <a:pt x="18932" y="15600"/>
                  </a:lnTo>
                  <a:arcTo wR="9656" hR="21600" stAng="-1973763" swAng="-3416051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2160" y="381672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80080" y="3587040"/>
              <a:ext cx="152280" cy="688680"/>
            </a:xfrm>
            <a:custGeom>
              <a:avLst/>
              <a:gdLst>
                <a:gd name="textAreaLeft" fmla="*/ 33840 w 152280"/>
                <a:gd name="textAreaRight" fmla="*/ 102960 w 152280"/>
                <a:gd name="textAreaTop" fmla="*/ 92160 h 688680"/>
                <a:gd name="textAreaBottom" fmla="*/ 596520 h 68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5332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58960" y="404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6424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1160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06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632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168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0120" y="3816720"/>
              <a:ext cx="4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480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480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012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012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09012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07480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4276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744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37480" y="4964760"/>
              <a:ext cx="610560" cy="22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3748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22160" y="4964760"/>
              <a:ext cx="610560" cy="22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2216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105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9531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742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316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0160" y="4964760"/>
              <a:ext cx="167904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7920" y="4964760"/>
              <a:ext cx="1679040" cy="22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5792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016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00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96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22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1840320"/>
            <a:ext cx="84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делен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ли сортировка используется для разделения продуктов по каким-либо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ортирование – по ка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либровка – по велич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Просеивание – отделение продуктов от примес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Триерирование – разделение по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Сепарирование – по пло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) Магнитное сепарирование – по магнитным 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78800" y="1154520"/>
            <a:ext cx="608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 Сит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Грохоты (механические сит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Гидравлические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) Вея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) Дисковый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) Электромагнитный сепар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41400" y="2220840"/>
            <a:ext cx="6263640" cy="4637160"/>
            <a:chOff x="941400" y="2220840"/>
            <a:chExt cx="6263640" cy="4637160"/>
          </a:xfrm>
        </p:grpSpPr>
        <p:grpSp>
          <p:nvGrpSpPr>
            <p:cNvPr id="522" name=""/>
            <p:cNvGrpSpPr/>
            <p:nvPr/>
          </p:nvGrpSpPr>
          <p:grpSpPr>
            <a:xfrm>
              <a:off x="4977000" y="3399480"/>
              <a:ext cx="2228040" cy="2010240"/>
              <a:chOff x="4977000" y="3399480"/>
              <a:chExt cx="2228040" cy="2010240"/>
            </a:xfrm>
          </p:grpSpPr>
          <p:sp>
            <p:nvSpPr>
              <p:cNvPr id="523" name=""/>
              <p:cNvSpPr/>
              <p:nvPr/>
            </p:nvSpPr>
            <p:spPr>
              <a:xfrm>
                <a:off x="583344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17652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90840" y="3760920"/>
                <a:ext cx="0" cy="59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0800000">
                <a:off x="6091200" y="4190040"/>
                <a:ext cx="34200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5208000">
                <a:off x="5744880" y="4194360"/>
                <a:ext cx="34056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19480" y="453240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8473200">
                <a:off x="5932440" y="3468240"/>
                <a:ext cx="34200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748480" y="4703040"/>
                <a:ext cx="684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6620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05400" y="4703040"/>
                <a:ext cx="84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97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23404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770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77000" y="4360680"/>
                <a:ext cx="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332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690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759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61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1182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04680" y="43606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5160" y="3846600"/>
                <a:ext cx="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7344800">
                <a:off x="5365440" y="4311360"/>
                <a:ext cx="68472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344800">
                <a:off x="5716080" y="4382280"/>
                <a:ext cx="6850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615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61572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9571400">
                <a:off x="6276240" y="4302720"/>
                <a:ext cx="6854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429600">
                <a:off x="5892840" y="4456080"/>
                <a:ext cx="6858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2" y="37"/>
                    </a:moveTo>
                    <a:arcTo wR="10800" hR="10800" stAng="-5686226" swAng="3901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2" y="37"/>
                    </a:moveTo>
                    <a:arcTo wR="10800" hR="10800" stAng="-5686226" swAng="390194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977000" y="2220840"/>
              <a:ext cx="1811160" cy="1400040"/>
              <a:chOff x="4977000" y="2220840"/>
              <a:chExt cx="1811160" cy="1400040"/>
            </a:xfrm>
          </p:grpSpPr>
          <p:sp>
            <p:nvSpPr>
              <p:cNvPr id="549" name=""/>
              <p:cNvSpPr/>
              <p:nvPr/>
            </p:nvSpPr>
            <p:spPr>
              <a:xfrm>
                <a:off x="4977000" y="22208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77000" y="3373560"/>
                <a:ext cx="148176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977000" y="2385000"/>
                <a:ext cx="1481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58760" y="2385360"/>
                <a:ext cx="0" cy="10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58760" y="345636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458760" y="362052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58760" y="353844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58760" y="2385360"/>
                <a:ext cx="1641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3280" y="2385360"/>
                <a:ext cx="16488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40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9424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2936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64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0032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35440" y="2303280"/>
                <a:ext cx="8208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70920" y="2303280"/>
                <a:ext cx="82440" cy="82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0640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4116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1160" y="263232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294240" y="3456360"/>
                <a:ext cx="8280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29360" y="337356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64840" y="3373560"/>
                <a:ext cx="8244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00320" y="3373560"/>
                <a:ext cx="8280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35440" y="3291480"/>
                <a:ext cx="8316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70920" y="329148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06400" y="329148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41160" y="320940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59080" y="2879640"/>
                <a:ext cx="82440" cy="817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141160" y="2467440"/>
                <a:ext cx="3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59080" y="2962440"/>
                <a:ext cx="360" cy="16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2360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23600" y="279756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00320" y="312660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6484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635440" y="2631960"/>
                <a:ext cx="246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800320" y="287928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88480" y="304452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46920" y="296244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9360" y="320940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1661760" y="2334960"/>
              <a:ext cx="2860920" cy="1721160"/>
              <a:chOff x="1661760" y="2334960"/>
              <a:chExt cx="2860920" cy="1721160"/>
            </a:xfrm>
          </p:grpSpPr>
          <p:sp>
            <p:nvSpPr>
              <p:cNvPr id="589" name=""/>
              <p:cNvSpPr/>
              <p:nvPr/>
            </p:nvSpPr>
            <p:spPr>
              <a:xfrm>
                <a:off x="1846800" y="3169080"/>
                <a:ext cx="148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184680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32856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46800" y="261288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328560" y="261252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28560" y="2983680"/>
                <a:ext cx="3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98640" y="2983680"/>
                <a:ext cx="9288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605760" y="3169080"/>
                <a:ext cx="1854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91880" y="3169080"/>
                <a:ext cx="18468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54280" y="242784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84680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3236040" y="2427480"/>
                <a:ext cx="921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332856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61760" y="2427840"/>
                <a:ext cx="36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43160" y="2334960"/>
                <a:ext cx="370440" cy="92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43160" y="2427840"/>
                <a:ext cx="370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61760" y="2334960"/>
                <a:ext cx="369360" cy="92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13600" y="3539160"/>
                <a:ext cx="555480" cy="92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13600" y="3539160"/>
                <a:ext cx="555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738000">
                <a:off x="3383640" y="3052080"/>
                <a:ext cx="1032480" cy="74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6714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67144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941400" y="3451320"/>
              <a:ext cx="3439800" cy="2370240"/>
              <a:chOff x="941400" y="3451320"/>
              <a:chExt cx="3439800" cy="2370240"/>
            </a:xfrm>
          </p:grpSpPr>
          <p:sp>
            <p:nvSpPr>
              <p:cNvPr id="610" name=""/>
              <p:cNvSpPr/>
              <p:nvPr/>
            </p:nvSpPr>
            <p:spPr>
              <a:xfrm>
                <a:off x="1616040" y="4466880"/>
                <a:ext cx="6170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воздух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547640" y="3451320"/>
                <a:ext cx="2833560" cy="1460520"/>
                <a:chOff x="1547640" y="3451320"/>
                <a:chExt cx="2833560" cy="146052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1901880" y="3725280"/>
                  <a:ext cx="2124000" cy="1003680"/>
                  <a:chOff x="1901880" y="3725280"/>
                  <a:chExt cx="2124000" cy="10036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078640" y="3725280"/>
                    <a:ext cx="5310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07864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2072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078280" y="3907800"/>
                    <a:ext cx="882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901880" y="418176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901880" y="436428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78640" y="4364280"/>
                    <a:ext cx="26496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252108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698200" y="4455360"/>
                    <a:ext cx="1764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3052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229200" y="4455360"/>
                    <a:ext cx="17712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3583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21080" y="3907800"/>
                    <a:ext cx="123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760200" y="390780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>
                    <a:off x="3760200" y="427248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937680" y="409068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937680" y="427284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1547640" y="42735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026960" y="41817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44680" y="3451320"/>
                  <a:ext cx="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3324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96460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95960" y="4638240"/>
                  <a:ext cx="36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1957680" y="4011120"/>
                <a:ext cx="1016640" cy="109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92200" y="4011120"/>
                <a:ext cx="2044800" cy="181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926" swAng="40332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926" swAng="40332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602200">
                <a:off x="1256400" y="3757680"/>
                <a:ext cx="1363320" cy="146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14" y="80"/>
                    </a:moveTo>
                    <a:arcTo wR="10800" hR="10800" stAng="-4980837" swAng="204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14" y="80"/>
                    </a:moveTo>
                    <a:arcTo wR="10800" hR="10800" stAng="-4980837" swAng="20413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956600" y="5247720"/>
              <a:ext cx="2005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56920" y="5247720"/>
              <a:ext cx="1998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6600" y="57441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7160" y="5744160"/>
              <a:ext cx="325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90360" y="6102360"/>
              <a:ext cx="160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5560" y="5749200"/>
              <a:ext cx="3211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3346200" y="5755320"/>
              <a:ext cx="347760" cy="325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19240" y="5162760"/>
              <a:ext cx="9237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Эл. магн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7560" y="5048280"/>
              <a:ext cx="36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3368600">
              <a:off x="1731240" y="5532480"/>
              <a:ext cx="397080" cy="63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94" y="1224"/>
                  </a:moveTo>
                  <a:arcTo wR="10800" hR="10800" stAng="-3747406" swAng="3747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94" y="1224"/>
                  </a:moveTo>
                  <a:arcTo wR="10800" hR="10800" stAng="-3747406" swAng="374740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376440" y="6102360"/>
              <a:ext cx="36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57160" y="6432120"/>
              <a:ext cx="170136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агнитн.       немагнитн.         продук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24200">
              <a:off x="3096720" y="5778000"/>
              <a:ext cx="801360" cy="85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643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64327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47840" y="53964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61760" y="33015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19800" y="34113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6176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0568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75880" y="63684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4720" y="493632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пускная способность сита характеризуется его живым сечением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940360" y="5300640"/>
                <a:ext cx="790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4427640" y="5720040"/>
            <a:ext cx="4464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отверстий,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всего си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характеристики размеров частиц используют обозначение плюс, минус. Например, частица проходит через отверстие 3 мм и задерживается на отверстии 2 мм. Ее класс крупности обозначают – 3 +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68360" y="1413000"/>
            <a:ext cx="6118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1. Измель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2. Пресс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3. Смешивание и сорт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981000"/>
            <a:ext cx="770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механическим процессам относятся: измельчение,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ссование, смешивание и сортировка сыпучи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1 Измель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– деление твердого вещества материала на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зависимости от размеров исходного и измельченного кусков разли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1. Дробление, которо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1 Крупное                                  1000            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2 Среднее                                    250             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3 Мелкое                                       20             1–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2. Помол, который подраз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1 Грубый                                    1–5        0,1 –0,04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2 Средний                           0,1 – 0,04    0,015–0,0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3 Тонкий                             0,1 – 0,04    0,005 – 0,001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4 Коллоидный                             0,1     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0,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27680"/>
            <a:ext cx="820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Основной показател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степень измельчения, которую подразделяют:             1. Линей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Объем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чальный и конечный диаметр кусков материала, если куски имеют не шарообразную форму, то считают средний диамет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2565360"/>
                <a:ext cx="1079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lb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48360" y="1511280"/>
                <a:ext cx="1008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1773360"/>
                <a:ext cx="576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640" y="2030400"/>
                <a:ext cx="67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24000" y="3141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Циклы измельчения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Открытые: 1.1 простой;  1.2 с предварительным сортированием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Замкнутые: 2.1 с предварительным сортированием и поверкой; 2.2 с поверочным сор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87280" y="4723920"/>
            <a:ext cx="6840720" cy="1584720"/>
            <a:chOff x="1187280" y="4723920"/>
            <a:chExt cx="6840720" cy="1584720"/>
          </a:xfrm>
        </p:grpSpPr>
        <p:sp>
          <p:nvSpPr>
            <p:cNvPr id="124" name=""/>
            <p:cNvSpPr/>
            <p:nvPr/>
          </p:nvSpPr>
          <p:spPr>
            <a:xfrm>
              <a:off x="3661200" y="5300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0360" y="5156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0080" y="5300280"/>
              <a:ext cx="58140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352240" y="5012640"/>
              <a:ext cx="1454400" cy="143280"/>
              <a:chOff x="2352240" y="5012640"/>
              <a:chExt cx="1454400" cy="143280"/>
            </a:xfrm>
          </p:grpSpPr>
          <p:sp>
            <p:nvSpPr>
              <p:cNvPr id="128" name=""/>
              <p:cNvSpPr/>
              <p:nvPr/>
            </p:nvSpPr>
            <p:spPr>
              <a:xfrm>
                <a:off x="2352240" y="5155920"/>
                <a:ext cx="145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3522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8066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952440" y="587664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240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248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880" y="4868280"/>
              <a:ext cx="72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44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389120" y="5876280"/>
              <a:ext cx="1455480" cy="143280"/>
              <a:chOff x="4389120" y="5876280"/>
              <a:chExt cx="1455480" cy="143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389120" y="6019560"/>
                <a:ext cx="14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38912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84460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844600" y="5012640"/>
              <a:ext cx="1455120" cy="143280"/>
              <a:chOff x="5844600" y="5012640"/>
              <a:chExt cx="1455120" cy="143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44600" y="5155920"/>
                <a:ext cx="145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84460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29972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971240" y="472428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71240" y="5732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553720" y="5444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62480" y="5444280"/>
              <a:ext cx="29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584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252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71240" y="6019560"/>
              <a:ext cx="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1840" y="558864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8626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62680" y="4868280"/>
              <a:ext cx="72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132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028000" y="472392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72160" y="4724280"/>
              <a:ext cx="14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252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87280" y="4868280"/>
              <a:ext cx="1018800" cy="1440360"/>
              <a:chOff x="1187280" y="4868280"/>
              <a:chExt cx="1018800" cy="14403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24680" y="5300280"/>
                <a:ext cx="5814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14840" y="486828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14840" y="587664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87280" y="5876640"/>
                <a:ext cx="5821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Verdana"/>
                  </a:rPr>
                  <a:t>1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206080" y="5876640"/>
              <a:ext cx="582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1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43680" y="486828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7960" y="587664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119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Способы измель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авливание, материал деформируется по всему объ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калывание, материал контактирует с клинообразным рабочим элемен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ламывание, за счет изгибающих си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ание, используется нож. Можно получать куски определенного размера и 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пиливание, использование пилы. Также получают заданные форму и размер кусков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тирание, для тонкого пом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при  ударе. Различают свободный и стесненный  уд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63640" y="4149720"/>
            <a:ext cx="5715000" cy="2255760"/>
            <a:chOff x="1763640" y="4149720"/>
            <a:chExt cx="5715000" cy="2255760"/>
          </a:xfrm>
        </p:grpSpPr>
        <p:grpSp>
          <p:nvGrpSpPr>
            <p:cNvPr id="178" name=""/>
            <p:cNvGrpSpPr/>
            <p:nvPr/>
          </p:nvGrpSpPr>
          <p:grpSpPr>
            <a:xfrm>
              <a:off x="1763640" y="4483800"/>
              <a:ext cx="914400" cy="685440"/>
              <a:chOff x="1763640" y="4483800"/>
              <a:chExt cx="914400" cy="685440"/>
            </a:xfrm>
          </p:grpSpPr>
          <p:sp>
            <p:nvSpPr>
              <p:cNvPr id="179" name=""/>
              <p:cNvSpPr/>
              <p:nvPr/>
            </p:nvSpPr>
            <p:spPr>
              <a:xfrm>
                <a:off x="1992240" y="4826160"/>
                <a:ext cx="45648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63640" y="4712400"/>
                <a:ext cx="914400" cy="11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3640" y="5055480"/>
                <a:ext cx="914400" cy="11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20840" y="4483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020760" y="4373640"/>
              <a:ext cx="914400" cy="799920"/>
              <a:chOff x="3020760" y="4373640"/>
              <a:chExt cx="914400" cy="7999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35240" y="4716000"/>
                <a:ext cx="685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3226320" y="4624560"/>
                <a:ext cx="502920" cy="22824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20760" y="5059080"/>
                <a:ext cx="914400" cy="1144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77960" y="437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78240" y="4149720"/>
              <a:ext cx="914400" cy="1143000"/>
              <a:chOff x="4278240" y="4149720"/>
              <a:chExt cx="914400" cy="1143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278240" y="4264200"/>
                <a:ext cx="914400" cy="1028520"/>
                <a:chOff x="4278240" y="4264200"/>
                <a:chExt cx="914400" cy="1028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392360" y="4949640"/>
                  <a:ext cx="114480" cy="3430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64400" y="4949640"/>
                  <a:ext cx="114120" cy="3430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278240" y="4721040"/>
                  <a:ext cx="914400" cy="227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5400000">
                  <a:off x="4506840" y="4378320"/>
                  <a:ext cx="456840" cy="22824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735440" y="4149720"/>
                <a:ext cx="3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592440" y="5605200"/>
              <a:ext cx="914400" cy="800280"/>
              <a:chOff x="3592440" y="5605200"/>
              <a:chExt cx="914400" cy="800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592440" y="5605200"/>
                <a:ext cx="914400" cy="685080"/>
                <a:chOff x="3592440" y="5605200"/>
                <a:chExt cx="914400" cy="685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821040" y="5947560"/>
                  <a:ext cx="456480" cy="22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2440" y="5833800"/>
                  <a:ext cx="914400" cy="113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592440" y="6176520"/>
                  <a:ext cx="914400" cy="113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049640" y="5605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820680" y="5718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820680" y="6405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535720" y="4597920"/>
              <a:ext cx="914400" cy="685800"/>
              <a:chOff x="5535720" y="4597920"/>
              <a:chExt cx="9144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5650200" y="5055120"/>
                <a:ext cx="79992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35720" y="4940280"/>
                <a:ext cx="45720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5535720" y="4597920"/>
                <a:ext cx="228600" cy="342360"/>
                <a:chOff x="5535720" y="4597920"/>
                <a:chExt cx="228600" cy="342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650200" y="459792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535720" y="482616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55357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35720" y="459792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643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64240" y="5380200"/>
              <a:ext cx="914400" cy="914040"/>
              <a:chOff x="6564240" y="5380200"/>
              <a:chExt cx="914400" cy="914040"/>
            </a:xfrm>
          </p:grpSpPr>
          <p:sp>
            <p:nvSpPr>
              <p:cNvPr id="213" name=""/>
              <p:cNvSpPr/>
              <p:nvPr/>
            </p:nvSpPr>
            <p:spPr>
              <a:xfrm>
                <a:off x="6792840" y="5907600"/>
                <a:ext cx="456480" cy="299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64240" y="6180480"/>
                <a:ext cx="914400" cy="1137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92840" y="5608800"/>
                <a:ext cx="456480" cy="2282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21440" y="538020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678720" y="4483800"/>
              <a:ext cx="799920" cy="799200"/>
              <a:chOff x="6678720" y="4483800"/>
              <a:chExt cx="799920" cy="799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792840" y="4483800"/>
                <a:ext cx="228960" cy="342360"/>
                <a:chOff x="6792840" y="4483800"/>
                <a:chExt cx="228960" cy="342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907320" y="448380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6792840" y="471204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79284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92840" y="44838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02180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792840" y="4940640"/>
                <a:ext cx="228960" cy="342360"/>
                <a:chOff x="6792840" y="4940640"/>
                <a:chExt cx="228960" cy="34236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6907320" y="494064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07320" y="494100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02180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907320" y="52830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79284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678720" y="4826160"/>
                <a:ext cx="79992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78520" y="5715000"/>
              <a:ext cx="914400" cy="571320"/>
              <a:chOff x="5078520" y="5715000"/>
              <a:chExt cx="914400" cy="571320"/>
            </a:xfrm>
          </p:grpSpPr>
          <p:sp>
            <p:nvSpPr>
              <p:cNvPr id="232" name=""/>
              <p:cNvSpPr/>
              <p:nvPr/>
            </p:nvSpPr>
            <p:spPr>
              <a:xfrm>
                <a:off x="5078520" y="6172560"/>
                <a:ext cx="914400" cy="11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21600" y="5715000"/>
                <a:ext cx="22824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5720" y="58294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91880" y="5605200"/>
              <a:ext cx="914400" cy="685800"/>
              <a:chOff x="1991880" y="5605200"/>
              <a:chExt cx="914400" cy="685800"/>
            </a:xfrm>
          </p:grpSpPr>
          <p:sp>
            <p:nvSpPr>
              <p:cNvPr id="236" name=""/>
              <p:cNvSpPr/>
              <p:nvPr/>
            </p:nvSpPr>
            <p:spPr>
              <a:xfrm>
                <a:off x="2106000" y="5942520"/>
                <a:ext cx="68580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91880" y="6176520"/>
                <a:ext cx="914400" cy="1144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105640" y="5833800"/>
                <a:ext cx="685800" cy="113760"/>
                <a:chOff x="2105640" y="5833800"/>
                <a:chExt cx="685800" cy="113760"/>
              </a:xfrm>
            </p:grpSpPr>
            <p:sp>
              <p:nvSpPr>
                <p:cNvPr id="239" name=""/>
                <p:cNvSpPr/>
                <p:nvPr/>
              </p:nvSpPr>
              <p:spPr>
                <a:xfrm rot="10800000">
                  <a:off x="21056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0800000">
                  <a:off x="221976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0800000">
                  <a:off x="23342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0800000">
                  <a:off x="25628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0800000">
                  <a:off x="244836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0800000">
                  <a:off x="267732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2448720" y="5605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219760" y="57189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63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216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9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2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152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364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207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495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9292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14389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на измельч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35040" y="2163600"/>
                <a:ext cx="49086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6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н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49800" y="3475440"/>
            <a:ext cx="784008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разование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ъемную деформацию матери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у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дельная работа образования одной единицы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ый раз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- предел про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модуль упругости Юн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262160"/>
            <a:ext cx="82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измельчения применяют следующие аппар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обилки: щековая (1), конусные (2), вальцовая или валковая (3), молотковая (4), дисковая (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аровые мельницы (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жернова (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79640" y="2781000"/>
            <a:ext cx="5762880" cy="3461040"/>
            <a:chOff x="1979640" y="2781000"/>
            <a:chExt cx="5762880" cy="3461040"/>
          </a:xfrm>
        </p:grpSpPr>
        <p:grpSp>
          <p:nvGrpSpPr>
            <p:cNvPr id="279" name=""/>
            <p:cNvGrpSpPr/>
            <p:nvPr/>
          </p:nvGrpSpPr>
          <p:grpSpPr>
            <a:xfrm>
              <a:off x="1979640" y="2887200"/>
              <a:ext cx="1387080" cy="1204920"/>
              <a:chOff x="1979640" y="2887200"/>
              <a:chExt cx="1387080" cy="12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2162520" y="3816360"/>
                <a:ext cx="2754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Verdana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979640" y="3083760"/>
                <a:ext cx="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253960" y="2887200"/>
                <a:ext cx="1112760" cy="1203480"/>
                <a:chOff x="2253960" y="2887200"/>
                <a:chExt cx="1112760" cy="1203480"/>
              </a:xfrm>
            </p:grpSpPr>
            <p:sp>
              <p:nvSpPr>
                <p:cNvPr id="283" name=""/>
                <p:cNvSpPr/>
                <p:nvPr/>
              </p:nvSpPr>
              <p:spPr>
                <a:xfrm rot="1385400">
                  <a:off x="2802960" y="2900520"/>
                  <a:ext cx="274320" cy="10098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253960" y="2900520"/>
                  <a:ext cx="274320" cy="916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711880" y="3724920"/>
                  <a:ext cx="9144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218200">
                  <a:off x="2521440" y="3049920"/>
                  <a:ext cx="730800" cy="73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9325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93254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286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204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45400" y="3999600"/>
                  <a:ext cx="18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2620440" y="399960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28640" y="3999600"/>
                  <a:ext cx="9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3465360" y="2781000"/>
              <a:ext cx="1886760" cy="1483200"/>
              <a:chOff x="3465360" y="2781000"/>
              <a:chExt cx="1886760" cy="148320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4379760" y="2781000"/>
                <a:ext cx="72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3465360" y="2855160"/>
                <a:ext cx="1886760" cy="1409040"/>
                <a:chOff x="3465360" y="2855160"/>
                <a:chExt cx="1886760" cy="14090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88320" y="3990600"/>
                  <a:ext cx="18288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837320" y="3258000"/>
                  <a:ext cx="51480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465000" y="3258000"/>
                  <a:ext cx="48564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22920" y="3990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49320" y="3258000"/>
                  <a:ext cx="1554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106160" y="3074400"/>
                  <a:ext cx="548640" cy="915840"/>
                </a:xfrm>
                <a:prstGeom prst="flowChartManualOperation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65516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83732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55160" y="4172760"/>
                  <a:ext cx="182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471200" y="417276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4837320" y="4172760"/>
                  <a:ext cx="1828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2117600">
                  <a:off x="4236120" y="2896200"/>
                  <a:ext cx="272520" cy="270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50"/>
                      </a:moveTo>
                      <a:arcTo wR="10800" hR="10800" stAng="-111457" swAng="8487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50"/>
                      </a:moveTo>
                      <a:arcTo wR="10800" hR="10800" stAng="-111457" swAng="84876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5500080" y="2865960"/>
              <a:ext cx="2242440" cy="1314360"/>
              <a:chOff x="5500080" y="2865960"/>
              <a:chExt cx="2242440" cy="1314360"/>
            </a:xfrm>
          </p:grpSpPr>
          <p:sp>
            <p:nvSpPr>
              <p:cNvPr id="308" name=""/>
              <p:cNvSpPr/>
              <p:nvPr/>
            </p:nvSpPr>
            <p:spPr>
              <a:xfrm rot="8800800">
                <a:off x="5523120" y="3248280"/>
                <a:ext cx="1555920" cy="54936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8800800">
                <a:off x="6163200" y="3247920"/>
                <a:ext cx="1555920" cy="55008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23120" y="3797640"/>
                <a:ext cx="1555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8520" y="3431160"/>
                <a:ext cx="36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9680" y="3431160"/>
                <a:ext cx="72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64640" y="3340080"/>
                <a:ext cx="730080" cy="73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200000">
                <a:off x="5523120" y="3339720"/>
                <a:ext cx="731520" cy="7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093400" y="4535640"/>
              <a:ext cx="1029240" cy="1439280"/>
              <a:chOff x="2093400" y="4535640"/>
              <a:chExt cx="1029240" cy="1439280"/>
            </a:xfrm>
          </p:grpSpPr>
          <p:sp>
            <p:nvSpPr>
              <p:cNvPr id="316" name=""/>
              <p:cNvSpPr/>
              <p:nvPr/>
            </p:nvSpPr>
            <p:spPr>
              <a:xfrm>
                <a:off x="2299320" y="5049000"/>
                <a:ext cx="823320" cy="82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7068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706821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02280" y="5460840"/>
                <a:ext cx="61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11520" y="5152320"/>
                <a:ext cx="3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07840" y="515232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2004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607480" y="576936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0228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093400" y="4740120"/>
                <a:ext cx="20556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93760" y="47404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711160" y="4740480"/>
                <a:ext cx="1026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05240" y="5255640"/>
                <a:ext cx="41220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09" y="1500"/>
                    </a:moveTo>
                    <a:arcTo wR="10800" hR="10800" stAng="-7233701" swAng="14989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09" y="1500"/>
                    </a:moveTo>
                    <a:arcTo wR="10800" hR="10800" stAng="-7233701" swAng="1498929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02280" y="4535640"/>
                <a:ext cx="0" cy="41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11520" y="5769360"/>
                <a:ext cx="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79480" y="4421520"/>
              <a:ext cx="603000" cy="1803960"/>
              <a:chOff x="3579480" y="4421520"/>
              <a:chExt cx="603000" cy="180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3751560" y="4678920"/>
                <a:ext cx="34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95720" y="4678920"/>
                <a:ext cx="0" cy="34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922920" y="5023080"/>
                <a:ext cx="17244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51560" y="46789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579480" y="4851000"/>
                <a:ext cx="17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3280" y="5194800"/>
                <a:ext cx="36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3760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52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37600" y="5452560"/>
                <a:ext cx="34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3579840" y="6053760"/>
                <a:ext cx="3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9840" y="4851000"/>
                <a:ext cx="0" cy="12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837600" y="4421520"/>
                <a:ext cx="8568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51560" y="596808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400000">
                <a:off x="3924720" y="5366520"/>
                <a:ext cx="343080" cy="17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302" y="983"/>
                    </a:moveTo>
                    <a:arcTo wR="10800" hR="10800" stAng="-3921932" swAng="177816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302" y="983"/>
                    </a:moveTo>
                    <a:arcTo wR="10800" hR="10800" stAng="-3921932" swAng="1778169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523120" y="4774320"/>
              <a:ext cx="2109600" cy="1156320"/>
              <a:chOff x="5523120" y="4774320"/>
              <a:chExt cx="2109600" cy="115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727240" y="4978080"/>
                <a:ext cx="1701360" cy="272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27240" y="5386320"/>
                <a:ext cx="1701360" cy="2721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44080" y="5658840"/>
                <a:ext cx="0" cy="2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39600" y="4978080"/>
                <a:ext cx="408600" cy="272160"/>
              </a:xfrm>
              <a:custGeom>
                <a:avLst/>
                <a:gdLst>
                  <a:gd name="textAreaLeft" fmla="*/ 89640 w 408600"/>
                  <a:gd name="textAreaRight" fmla="*/ 318960 w 408600"/>
                  <a:gd name="textAreaTop" fmla="*/ 59760 h 272160"/>
                  <a:gd name="textAreaBottom" fmla="*/ 212400 h 27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89120" y="5318640"/>
                <a:ext cx="54360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6200000">
                <a:off x="5523120" y="5318280"/>
                <a:ext cx="54288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44080" y="4774320"/>
                <a:ext cx="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39600" y="5647680"/>
                <a:ext cx="408240" cy="2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20" y="7029"/>
                    </a:moveTo>
                    <a:arcTo wR="10800" hR="10800" stAng="-1226163" swAng="126282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20" y="7029"/>
                    </a:moveTo>
                    <a:arcTo wR="10800" hR="10800" stAng="-1226163" swAng="126282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380120" y="4774320"/>
              <a:ext cx="1097640" cy="1281600"/>
              <a:chOff x="4380120" y="4774320"/>
              <a:chExt cx="1097640" cy="1281600"/>
            </a:xfrm>
          </p:grpSpPr>
          <p:sp>
            <p:nvSpPr>
              <p:cNvPr id="354" name=""/>
              <p:cNvSpPr/>
              <p:nvPr/>
            </p:nvSpPr>
            <p:spPr>
              <a:xfrm>
                <a:off x="4471200" y="4957560"/>
                <a:ext cx="915120" cy="91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54800" y="569016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4624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62640" y="559800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5480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54800" y="550692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62640" y="5506920"/>
                <a:ext cx="9180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46240" y="569016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37680" y="57812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928760" y="4774320"/>
                <a:ext cx="0" cy="12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80120" y="5414760"/>
                <a:ext cx="10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7120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6264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62640" y="523188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6264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62640" y="5140080"/>
                <a:ext cx="918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54800" y="504864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3768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46240" y="514008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54800" y="5231880"/>
                <a:ext cx="9036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54800" y="5323320"/>
                <a:ext cx="900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28760" y="51400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20200" y="52318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4624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28760" y="532332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46240" y="4774320"/>
                <a:ext cx="730800" cy="73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6620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65640" y="59425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79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376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2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0320" y="430200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124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1125360"/>
            <a:ext cx="813600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2 Пресс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родукт оказывается давление, под действием которого происходит изменение его свойств и фо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Различают: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отжатие (жидкость от твердых компонентов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формование и штамповка (кондитерские изделия, котлеты и т.д.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ессование или брикетирование (в т.ч. таблетк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экструзия – продавливание материала через профилирующие головки с одновременной термообработ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акторы, влияющие на процесс прессования: 1) давление, чем больше, тем эффективнее, производительнее, но потеря ценных компонентов, засорение жидкой фазы твердой, перерасход энерг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рочность и размер прессуемого материала, толщина слоя (требуют повышения давления и расхода энерги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одолжительность процес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температу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еречисленные в пп. 3 и 4 характеристики с ростом их значения повышают производительность, но повышают расход энергии, при этом может произойти снижение пищевых свойств проду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04000" y="2204640"/>
            <a:ext cx="194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оставляе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0–95 %)</a:t>
            </a:r>
            <a:br>
              <a:rPr sz="4000"/>
            </a:b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716360" y="1341360"/>
                <a:ext cx="1008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16360" y="2205000"/>
                <a:ext cx="1944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643280" y="3141720"/>
                <a:ext cx="1297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643280" y="4365720"/>
                <a:ext cx="1513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pd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586160" y="1045080"/>
            <a:ext cx="24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четные характеристи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уплотн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76080" y="2097720"/>
            <a:ext cx="25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49520" y="30438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терий Фурь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520" y="3951720"/>
            <a:ext cx="431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станта прессования, 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та сло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76360" y="5083200"/>
            <a:ext cx="7143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перечное сеч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 прессы, формовочные, штамповочные аппараты, экструд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1:55:26Z</dcterms:created>
  <dc:creator>User</dc:creator>
  <dc:description/>
  <dc:language>en-US</dc:language>
  <cp:lastModifiedBy>User</cp:lastModifiedBy>
  <dcterms:modified xsi:type="dcterms:W3CDTF">2006-12-19T13:35:10Z</dcterms:modified>
  <cp:revision>2</cp:revision>
  <dc:subject/>
  <dc:title> «Процессы и аппараты пищевых производств»  </dc:title>
</cp:coreProperties>
</file>